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F38-A5BE-4DB6-985D-4C839C31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FAD-A86C-461E-AC01-345B61F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9B2-CA57-44EF-8D9A-A2AB6486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E36-906E-4E7A-B4C3-A382D069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DB9-8F0E-4574-9F03-2EF5CF3C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F30-BB75-4F5B-B5A7-38A16B9C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178-FEA3-4026-BD78-C4FBBDD0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6AE-E39E-4DF9-9769-DE76A398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1BD-EDFD-4985-BC6F-60A15B77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B61-727E-4579-A920-3ADD531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EBF-B3E3-4BE0-BFEC-95F0C89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C94-80DE-4673-B9C6-F4411C7E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6758C-710D-4C1C-ACC4-426E073634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16522-78BE-4F94-8208-CC0DC23B5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1:30:50Z</dcterms:created>
  <dc:creator>Caroline Roth</dc:creator>
  <dc:description/>
  <dc:language>en-US</dc:language>
  <cp:lastModifiedBy>Caroline Roth</cp:lastModifiedBy>
  <cp:lastPrinted>2010-10-18T11:42:38Z</cp:lastPrinted>
  <dcterms:modified xsi:type="dcterms:W3CDTF">2011-05-24T01:19:57Z</dcterms:modified>
  <cp:revision>3</cp:revision>
  <dc:subject/>
  <dc:title>Slide 1</dc:title>
</cp:coreProperties>
</file>